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gif" ContentType="image/gif"/>
  <Override PartName="/ppt/media/image5.jpeg" ContentType="image/jpeg"/>
  <Override PartName="/ppt/media/image26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5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526716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1239480" y="3257640"/>
            <a:ext cx="68166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0" y="6515280"/>
            <a:ext cx="4029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5267160" y="6515280"/>
            <a:ext cx="4029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9634-7BBB-4A28-B011-86EB55EC2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5267160" y="6515280"/>
            <a:ext cx="4029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8CA5-9405-4FA4-9401-9936A2E50B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239480" y="3257640"/>
            <a:ext cx="68166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04BF-44FB-40ED-935B-570A291D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7D3A-2011-46B4-8B8E-30FC1A8F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41BA-A33E-484E-B841-0B642BB26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D578-085D-448E-A82F-ABFDD848F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59E8-2B8D-4027-9C99-5655474E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9413-61B6-4F4C-9E0D-9B622DD6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BB83-E742-42C5-97DB-22E4D896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13C2-F281-41C0-86C7-81ED705A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0312-0333-495A-AF7B-57C88BB0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12FF-B6D6-4F91-9B33-1FF71EE8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093D-8925-4A18-89E3-081CDF76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9CAA-91EB-4751-B697-154A263B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709F-2FA7-4055-932B-5A5B9953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5369-30C2-4AE0-BC3D-D5757AC6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E0FB-ABBA-40CA-8C95-3EB13B0B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0AA8-706A-43AB-9B05-1553CDA6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290A-77F7-42AB-9152-D0F237434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5836-190F-425B-887B-3A14B384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8F8D-94A0-4A44-ADAD-A78EA90D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6BC1-D413-40E3-8A48-75C48D67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2B9E-AA8C-49E7-86A6-4AE8F4C3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483A-3BA4-4BA8-B7CA-2BEF6CE0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83C1-A6DE-498F-977B-93468079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9D01-2CFF-4B68-95D2-6632CA04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6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B608-1BD9-4126-BFE1-C29903126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6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6677-9AA8-42EC-9D2A-A40E07576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DIGESTIVE SYSTEM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pic>
        <p:nvPicPr>
          <p:cNvPr id="136" name="Picture 2053" descr="color"/>
          <p:cNvPicPr/>
          <p:nvPr/>
        </p:nvPicPr>
        <p:blipFill>
          <a:blip r:embed="rId1"/>
          <a:stretch/>
        </p:blipFill>
        <p:spPr>
          <a:xfrm>
            <a:off x="2514600" y="1600200"/>
            <a:ext cx="50292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HARD PALATE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NY STRUCTURE THAT FORMS THE ROOF OF THE M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ERATES THE MOUTH FROM THE NASAL CA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HIATAL HERNIA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MACH PROTRUDES THROUGH THE DIAPHRAGM INTO THE CHEST CAVITY THROUGH THE OPENING FOR THE ESOPHAG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SYMPTOM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RTBU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ENTION OF THE STOM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ST 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ICULTY SWALLO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ND DI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FREQUENT ME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 UP AFTER E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GICAL REP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INGUINAL HERNIA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TIONOF THE SMALL INTESTINE PROTRUDES THROUGH THE INGUINAL RINGS OF THE LOWER ABDOMINAL 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HERNIA CANNOT BE REDUCED, OR PUSHED BACK IN PLACE, A HERNIORRHAPY IS DO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PERITONITI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LAMMATION OF THE ABDOMINAL PERITONEAL CA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OCCURS WHEN A RUPTURE IN THE INTESTINE ALLOWS FECAL CONTENTS TO ENTER THIS CA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PTURED APPENDIX OR GALLBLADDER ARE CA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SYMPTOM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DOMINAL PAIN AND DIST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V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&amp;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BIO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GICAL REP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ULCER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SORE ON THE LINING OF THE DIGESTIVE 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PTIC ULCERS INCLUDE GAASTRIC AND DUODENAL ULC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SYMPTOM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NING 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G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MATEMESIS (BLOODY VOMITU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ENA (DARK,TARRY STOO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ACIDS AND BLAND DI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REASING 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IRRITANTS SUCH AS ALCOHOL, FRIED FOOD, TOBACCO, AND CAFFE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SOFT PALATE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ED BEHIND THE HARD PAL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RATES THE MOUTH FROM THE NASOPHARYN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ULCERATIVE COLITI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E INFLAMMATION OF THE COLON WITH THE FORMATION OF ULCERS AND ABS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GHT TO BE CAUSED BY STRESS, ALLERGIC REACTIONS TO FOOD, OR AN AUTOIMMUNE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SYMPTOM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RRHEA WITH BLOOD, PUS, AND MUC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IGHT LOSS, WEAKNESS, ABDOMINAL PAIN, ANEMIA AND ANOREX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S OF REMISSION AND EXACCERBATION ARE COMM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ED TOWARD CONTROLLING INFLAM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 STRESS WITH MILD SE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TAIN PROPER NUTR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SUBSTANCES THAT AGGRAVATE THE CON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GICAL REMOVAL OF AFFECTED COLON IN SOME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THE END!!!!!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600200" y="762120"/>
          <a:ext cx="6415200" cy="5181480"/>
        </p:xfrm>
        <a:graphic>
          <a:graphicData uri="http://schemas.openxmlformats.org/drawingml/2006/table">
            <a:tbl>
              <a:tblPr/>
              <a:tblGrid>
                <a:gridCol w="2649600"/>
                <a:gridCol w="3765600"/>
              </a:tblGrid>
              <a:tr h="51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-nasal cavity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-lips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-teeth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-aveolar ridge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-hard palate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-velum (soft palate)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7-uvula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8-apex (tip) of tongue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9-blade (front) of tongue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-dorsum (back) of tongue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1-oral cavity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2-pharynx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3-epiglottis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-larynx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5-vocal cords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6-trachea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7-esophagus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7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                        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6" name="Picture 7" descr="organs"/>
          <p:cNvPicPr/>
          <p:nvPr/>
        </p:nvPicPr>
        <p:blipFill>
          <a:blip r:embed="rId1"/>
          <a:stretch/>
        </p:blipFill>
        <p:spPr>
          <a:xfrm>
            <a:off x="4267080" y="685800"/>
            <a:ext cx="4491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SALIVARY GLAND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PAIRS OF G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OTID, SUBLINGUAL, AND SUBMANDIB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 A LIQUID CALLED SAL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BRICATES THE MOUTH DURING SPEECH AND CHE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ISTENS FOOD SO IT CAN BE SWALLOWED EAS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head-and-neck-glands"/>
          <p:cNvPicPr/>
          <p:nvPr/>
        </p:nvPicPr>
        <p:blipFill>
          <a:blip r:embed="rId1"/>
          <a:stretch/>
        </p:blipFill>
        <p:spPr>
          <a:xfrm>
            <a:off x="1371600" y="304920"/>
            <a:ext cx="72388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SALIVA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S AN ENZYME CALLED SALIVARY AMYLASE, FORMERLY KNOWN AS PTYAL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TANCE SPEEDING UP A CHEMICAL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INS THE CHEMICAL BREAKDOWN OF CARBOHYDRATES OR STARCHES INTO SUGARS THAT CAN BE TAKEN INTO THE BOD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PHARYNX OR THROA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THE FOOD IS CHEWED AND MIXED WITH SALIVA, IT IS CALLED A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OLU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IT ENTERS THE PHARYNX OR THRO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BE THAT CARRIES BOTH AIR AND 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IES THE AIR TO THE TRACHEA OR WINDPI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PHARYNX CARRIES FOOD TO THE ESOPHAGU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BOLUS IS SWALLOWED MUSCLE ACTION CAUSES THE EPIGLOTTIS TO CLOSE OVER THE LARYN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S BOLUS FROM ENTERING RESPIRATORY 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epiglottis"/>
          <p:cNvPicPr/>
          <p:nvPr/>
        </p:nvPicPr>
        <p:blipFill>
          <a:blip r:embed="rId1"/>
          <a:stretch/>
        </p:blipFill>
        <p:spPr>
          <a:xfrm>
            <a:off x="1523880" y="762120"/>
            <a:ext cx="708660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-30528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ESOPHAGU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5244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CULAR TUBE DORSAL TO THE TRACHEA OR WINDPI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ES BOLUS FROM THE PHARYNX AND CARRIES IT TO THE STOM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ES ON A RHYTHMIC, WAVELIKE INVOLUNTARY MOVEMENT OF ITS MUSCLES, CALL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ERISTAL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TO MOVE THE FOOD IN A FORWARD DI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ESTIVE SYSTEM IS RESPONSIBLE FOR THE PHYSICAL AND CHEMICAL BREAKDOWN OF FOOD SO IT CAN BE TAKEN INTO THE BLOOD STREAM AND USED BY BODY CELLS AND TISS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STEM INCLUDES THE ALIMENTARY CANAL AND ACCESSORY ORG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STOMACH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LARGED PART OF THE ALIMENTARY CA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ES THE FOOD FROM THE ESOPHAG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OUS MEMBRANE LINING CONTAINS FOLDS CALL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UGA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HICH DISAPPEAR AS THE STOMACH FILLS WITH AND EXP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19223"/>
          <p:cNvPicPr/>
          <p:nvPr/>
        </p:nvPicPr>
        <p:blipFill>
          <a:blip r:embed="rId1"/>
          <a:stretch/>
        </p:blipFill>
        <p:spPr>
          <a:xfrm>
            <a:off x="1295280" y="533520"/>
            <a:ext cx="7162920" cy="57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ARDIAC SPHINCTER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RCULAR MUSCLE BETWEEN THE ESOPHAGUS AND STOM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S AFTER FOOD ENTERS THE STOM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S FOOD FROM GOING BACK UP INTO THE ESOPHAG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23500975"/>
          <p:cNvPicPr/>
          <p:nvPr/>
        </p:nvPicPr>
        <p:blipFill>
          <a:blip r:embed="rId1"/>
          <a:stretch/>
        </p:blipFill>
        <p:spPr>
          <a:xfrm>
            <a:off x="1371600" y="609480"/>
            <a:ext cx="70866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PYLORIC SPHINCTER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RCULAR MUSCLE BETWEEN THE STOMACH AND SMALL INTES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S FOOD IN THE STOMACH UNTIL IT IS READY TO ENTER THE SMALL INTES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 USUALLY REMAINS IN THE STOMACH FOR ABOUT ONE TO FOUR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GASTRIC JUICE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D BY GLANDS IN THE STOM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RT FOOD INTO SEMIFLUID MATERIAL CALLED CHY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ICES CONTAIN HYDROCHLORIC AC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LLS 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S IN THE ABSORPTION OF IR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ATES THE ENZYME PEPS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Gastric Juice…does a body good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pic>
        <p:nvPicPr>
          <p:cNvPr id="180" name="Picture 5" descr="Leslie Irons drinking juice"/>
          <p:cNvPicPr/>
          <p:nvPr/>
        </p:nvPicPr>
        <p:blipFill>
          <a:blip r:embed="rId1"/>
          <a:stretch/>
        </p:blipFill>
        <p:spPr>
          <a:xfrm>
            <a:off x="1828800" y="1523880"/>
            <a:ext cx="611496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JUICES ALSO CONTAIN ENZYME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PASE, WHICH BEGINS THE CHEMICAL BREAKDOWN OF F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PSIN, WHICH STARTS PROTEIN DIG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N INFANT, ENZYME RENNIN IS EXCRE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DS IN THE DIGESTION OF MIL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PRESENT IN AD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SMALL INTESTINE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324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ILED SECTION OF THE ALIMENTARY CANAL  ABOUT TWENTY FEET LONG AND ONE INCH IN DI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ES FOOD, IN FORM OF CHYME, FROM STOM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ODEN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JUN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E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Gastro_Intest_call_300CMYK"/>
          <p:cNvPicPr/>
          <p:nvPr/>
        </p:nvPicPr>
        <p:blipFill>
          <a:blip r:embed="rId1"/>
          <a:stretch/>
        </p:blipFill>
        <p:spPr>
          <a:xfrm>
            <a:off x="1676520" y="304920"/>
            <a:ext cx="61722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ALIMENTARY CANAL</a:t>
            </a:r>
            <a:br>
              <a:rPr sz="4400"/>
            </a:b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 MUSCULAR TUB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S AT THE MOUTH AND INCLUDES THE PHARYNX, ESOPHAGUS, STOMACH, SMALL INTESTINES AND LARGE INTEST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DUODENUM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NINE TO TEN I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LE FROM THE GALLBLADDER AND LIVER AND PANCREATIC JUICE FROM THE PANCREAS ENTER THIS SECTION THROUGH DUCTS OR TUB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hdc_0001_0003_0_img0191"/>
          <p:cNvPicPr/>
          <p:nvPr/>
        </p:nvPicPr>
        <p:blipFill>
          <a:blip r:embed="rId1"/>
          <a:stretch/>
        </p:blipFill>
        <p:spPr>
          <a:xfrm>
            <a:off x="1523880" y="457200"/>
            <a:ext cx="6858000" cy="60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JEJUNUM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UT EIGHT FEET L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S THE MIDDLE SECTION OF THE SMALL INTES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ILEUM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 TWELVE F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S WITH THE LARGE INTESTINE AT THE CEC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RCULAR MUSCLE CALLED THE ILEOCECAL VALVE SEPARATES THE ILEUM AND CECUM AND PREVENTS FROM RETURNING TO THE ILE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FUNCTIONS OF THE SMALL INTESTINE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TES THE PROCESS OF DIG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ORBS THE PRODUCTS OF DIGESTION INTO THE BLOOD STREAM FOR USE BY BODY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INTESTINAL JUICE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324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D BY THE SMALL INTES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 THE ENZYMES MALTASE, SUCRASE, AND LACTASE, WHICH BREAK DOWN SUGARS INTO SIMPLE 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CONTAIN ENZYMES KNOWN AS PEPTIDASES, WHICH COMPLETE THE DIGESTION OF PROT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BILE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QUID THAT ENTERS SMALL INTESTINE FROM LIVER AND GALLBLAD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ULSIFIES OR PHYSICALLY BREAKS DOWN F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8794"/>
          <p:cNvPicPr/>
          <p:nvPr/>
        </p:nvPicPr>
        <p:blipFill>
          <a:blip r:embed="rId1"/>
          <a:stretch/>
        </p:blipFill>
        <p:spPr>
          <a:xfrm>
            <a:off x="1295280" y="380880"/>
            <a:ext cx="708660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PANCREATIC JUICE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5244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QUID THAT ENTERS SMALL INTESTINE FROM PANC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S ENZYMES THAT COMPLETE THE PROCESS OF DIG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NCREATIC AMYLASE, WHICH ACTS ON SUG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PSIN AND CHYMOTRYPSIN, WHICH ACT ON PROTE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PASE, WHICH ACTS ON F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VILLI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GERLIKE PROJECTONS THAT LINE WALL OF SMALL INTES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 FOOD TO BE ABSORBED OR TAKEN INTO BLOOD 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S BLOOD CAPILLARIES AND LACTE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ACCESSORY ORGANS</a:t>
            </a:r>
            <a:br>
              <a:rPr sz="4400"/>
            </a:b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 THE SALIVARY GLANDS, TONGUE, TEETH, LIVER, GALLBLADDER, AND PANC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Villi"/>
          <p:cNvPicPr/>
          <p:nvPr/>
        </p:nvPicPr>
        <p:blipFill>
          <a:blip r:embed="rId1"/>
          <a:stretch/>
        </p:blipFill>
        <p:spPr>
          <a:xfrm>
            <a:off x="1523880" y="762120"/>
            <a:ext cx="6553440" cy="53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VILLI CONTINUED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4568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 CAPILLARIES ABSORB OR PICK UP THE DIGESTED NUTRIENTS AND CARRY THEM TO THE LIVER WHERE THEY ARE STORED OR RELEASED INTO GENERAL CIRCULATION FOR USE BY BODY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TEALS PICK UP  MOST OF THE DIGESTED FATS AND CARRY THEM TO THE LYMPATHIC SYSTEM, WHICH RELEASES THEM INTO THE CIRCULATORY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SMALL INTESTINE OVERVIEW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FOOD HAS COMPLETED ITS PASSAGE THROUGH THE SMALL INTESTINE ONLY WASTES, INDIGESTIBLE MATERIALS AND EXCESS WATER RE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LARGE INTESTINE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 SECTION OF THE ALIMENTARY CA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UT FIVE FEET LONG AND ABOUT TWO INCHES IN DI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5" descr="Large intestine anatomy"/>
          <p:cNvPicPr/>
          <p:nvPr/>
        </p:nvPicPr>
        <p:blipFill>
          <a:blip r:embed="rId1"/>
          <a:stretch/>
        </p:blipFill>
        <p:spPr>
          <a:xfrm>
            <a:off x="1371600" y="380880"/>
            <a:ext cx="72388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600" y="-60948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FUNCTION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244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ORPTION OF WATER AND ANY REMAINING NUTR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RAGE OF INDIGESTIBLE MATERIALS BEFORE THEY ARE ELIMINATED FROM THE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FUNCTIONS 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THESIS (FORMATION) AND ABSORPTION OF SOME B- COMPLEX VITAMINS AND VITAMIN K BY BACTERIA PRESENT IN INTES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ORTATION OF THE WASTE PRODUCTS OUT OF THE ALIMENTARY CA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5" descr="lab"/>
          <p:cNvPicPr/>
          <p:nvPr/>
        </p:nvPicPr>
        <p:blipFill>
          <a:blip r:embed="rId1"/>
          <a:stretch/>
        </p:blipFill>
        <p:spPr>
          <a:xfrm>
            <a:off x="5562720" y="228600"/>
            <a:ext cx="251460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SECTIONS OF LARGE INTESTINE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C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S WITH THE ILEUM OF THE SMALL INTEST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A SMALL PROJECTION CALLED THE VERMIFORM APPEND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OLON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SCEND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LON CONTINUES UP ON THE RIGHT SIDE OF THE BODY FROM THE CECUM TO THE LOWER PART OF THE L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RANSVER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LON EXTENDS ACROSS THE ABDOMEN, BELOW THE LIVER AND STOMACH, BUT ABOVE THE SMALL INTES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OLON CONTINUED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ESCENDIN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 EXTENDS DOWN THE LEFT SIDE OF THE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GMOI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L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S WITH DESCENDING COL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” SHAPED SECTION THAT JOINS WITH THE RECT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18184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MOUTH OR ORAL CAVITY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ES FOOD AS IT  ENTERS THE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ONS IN THE M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OD IS TAS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KEN DOWN PHYSICALLY BY CHE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BRICATED AND PARTIALLY DIGESTED BY SAL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ALLOW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244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RECTUM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5244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 SIX TO EIGHT I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RAGE AREA FOR THE INDIGESTIBLES OR WAS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A NARROW CANAL CALLED THE ANAL CANAL, WHICH OPENS AT A HOLE CALLED THE AN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CAL MATERIAL OR STOOL, THE FINAL WASTE PRODUCT OF THE DIGESTIVE PROCESS, IS EXPELLED THROUGH THIS OPE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LIVER 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ST GLAND IN THE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SSORY ORGAN FOR THE DIGESTIVE 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ED UNDER THE DIAPHRAGM IN THE UPPER RIGHT QUADRANT OF THE ABD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liver-diagram"/>
          <p:cNvPicPr/>
          <p:nvPr/>
        </p:nvPicPr>
        <p:blipFill>
          <a:blip r:embed="rId1"/>
          <a:stretch/>
        </p:blipFill>
        <p:spPr>
          <a:xfrm>
            <a:off x="2590920" y="838080"/>
            <a:ext cx="4647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FUNCTION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RETES B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TO EMULSIFY OR PHYSICALLY BREAK UP F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MAKES FATS WATER SOLUBLE, WHICH IS NECESSARY FOR ABSOR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RES SUGAR IN THE FORM OF GLYCO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YCOGEN IS CONVERTED TO GLUC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ESED INTO THE BLOOD SYREAM WHEN ADDITIONAL BLOOD SUGAR IS NEED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FUNCTIONS CONTINUED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RES IRON AND CERTAIN VITAM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S HEPARIN, A SUBSTANCE THAT PREVENTS CLOTTING OF THE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S BLOOD PROTEINS SUCH AS FIBRINOGEN AND PROTHROMBIN, WHICH AID IN CLOTTING OF THE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FUNCTIONS CONTINUED 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S CHOLESTE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OXIFIES (RENDERS LESS HARMFUL) SUBSTANCES SUCH AS ALCOHOL AND PESTICIDES, AND DESTROYS BACTERIA THAT HAVE BEEN TAKEN INTO THE BLOOD FROM THE INTEST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GALLBLADDER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MUSCULAR S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ED UNDER THE LIVER AND ATTACHED TO IT BY CONNECTIVE TISS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RES AND CONCENTRATES BILE, WHICH IT RECEIVES FROM THE L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5" descr="8732"/>
          <p:cNvPicPr/>
          <p:nvPr/>
        </p:nvPicPr>
        <p:blipFill>
          <a:blip r:embed="rId1"/>
          <a:stretch/>
        </p:blipFill>
        <p:spPr>
          <a:xfrm>
            <a:off x="1600200" y="838080"/>
            <a:ext cx="6477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GALLBLADDER CONTINUE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BILE IS NEEDED IN THE DIGESTIVE TRACT TO EMULSIFY FATS, IT CONTRACTS AND PUSHES THE BILE THROUGH THE COMMON BILE DUCT INTO THE DUODEN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PANCREA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SH-SHAPED ORGAN LOCATED BEHIND THE STOM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S PANCREATIC JU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ICES ENTER DUODENUM THROUGH PANCREATIC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ENZYMES TO DIGEST FO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NCREATIC AMYLASE TO BREAK DOWN FOOD SUG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PSIN AND CHYMOTRYPSINTO BREAK DOWN PROTE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PASE TO ACTON F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Sagittalmouth"/>
          <p:cNvPicPr/>
          <p:nvPr/>
        </p:nvPicPr>
        <p:blipFill>
          <a:blip r:embed="rId1"/>
          <a:stretch/>
        </p:blipFill>
        <p:spPr>
          <a:xfrm>
            <a:off x="2514600" y="380880"/>
            <a:ext cx="4321080" cy="62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" descr="pancreas"/>
          <p:cNvPicPr/>
          <p:nvPr/>
        </p:nvPicPr>
        <p:blipFill>
          <a:blip r:embed="rId1"/>
          <a:stretch/>
        </p:blipFill>
        <p:spPr>
          <a:xfrm>
            <a:off x="2171880" y="304920"/>
            <a:ext cx="47415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PANCREAS CONTINUED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S INSUL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ED INTO THE BLOOD STR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TES THE METABOLISM OR BURNING OF CARBOHYDRATES TO CONVERT GLUCOSE (BLOOD SUGAR) TO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DISEASES OF THE DIGESTIVE SYSTEM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APPENDICITI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TE INFLAMMATION OF THE APPENDIX USUALLY DUE TO AN OBSTRUCTION AND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1128"/>
          <p:cNvPicPr/>
          <p:nvPr/>
        </p:nvPicPr>
        <p:blipFill>
          <a:blip r:embed="rId1"/>
          <a:stretch/>
        </p:blipFill>
        <p:spPr>
          <a:xfrm>
            <a:off x="2057400" y="1143000"/>
            <a:ext cx="5638680" cy="45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SYMPTOM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IZED ABDOMINAL PAIN THAT LATER LOCALIZES AT THE LOWER RIGHT QUADR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&amp;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LD F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VATED W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THE APPENDIX RUPTURES?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ECTIOUS MATERIAL SPILLS OUT INTO PERITONEAL CAVITY AND CAUSES PERITONITIS, A SERIOUS CON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ENDECT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Appy12"/>
          <p:cNvPicPr/>
          <p:nvPr/>
        </p:nvPicPr>
        <p:blipFill>
          <a:blip r:embed="rId1"/>
          <a:stretch/>
        </p:blipFill>
        <p:spPr>
          <a:xfrm>
            <a:off x="2209680" y="2685960"/>
            <a:ext cx="49532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HOLECYSTITI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LAMMATION OF THE GALLBLAD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LELITHIASIS: GALLSTONES FORM FROM CRYSTALIZED CHOLESTEROL, BILE SALTS, AND BILE PIG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5" descr="Cholelithiasis%20&amp;%20Chronic%20Cholecystitis"/>
          <p:cNvPicPr/>
          <p:nvPr/>
        </p:nvPicPr>
        <p:blipFill>
          <a:blip r:embed="rId1"/>
          <a:stretch/>
        </p:blipFill>
        <p:spPr>
          <a:xfrm>
            <a:off x="1371600" y="914400"/>
            <a:ext cx="716292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TEETH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STRUCTURES IN THE M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K DOWN FOOD PHYSICALLY BY CHEWING AND GRINDING THE FOOD, A PROCESS CALL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ST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SYMPTOM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TLY OCCUR AFTER EATING FATTY F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GESTION, N&amp;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 UNDER RIB THAT RADIATES TO THE RIGHT SHOUL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GALLSTONE BLOCK BILE DUCTS,GALLBLADDER CAN RUPTURE AND CAUSE PERITONIT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FAT DI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HOTRIPSY: SHOCK WAVES TO SHATTER GALLST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LECYSTECTOMY: SURGICAL REMOVAL OF GALLBLAD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Lithotripsy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pic>
        <p:nvPicPr>
          <p:cNvPr id="263" name="Picture 6" descr="lithotripsy"/>
          <p:cNvPicPr/>
          <p:nvPr/>
        </p:nvPicPr>
        <p:blipFill>
          <a:blip r:embed="rId1"/>
          <a:stretch/>
        </p:blipFill>
        <p:spPr>
          <a:xfrm>
            <a:off x="1981080" y="1676520"/>
            <a:ext cx="59436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IRRHOSI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NIC DESTRUCTION OF LIVER CELLS ACCOMPANIED BY THE FORMATION OF FIBROUS CONNECTIVE AND SCAR TISS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S: MALNUTRITION ASSOCIATED WITH ALCOLISM, HEPATITIS, BILE DUCT DISEASE, AND CHEMICAL TOX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5" descr="liver%20cirrhosis"/>
          <p:cNvPicPr/>
          <p:nvPr/>
        </p:nvPicPr>
        <p:blipFill>
          <a:blip r:embed="rId1"/>
          <a:stretch/>
        </p:blipFill>
        <p:spPr>
          <a:xfrm>
            <a:off x="5257800" y="228600"/>
            <a:ext cx="24447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SYMPTOM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Y AND BECOME MORE SEVERE AS DISEASE PROGR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LARGEMENT OF THE L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EMIA AND NOSEBL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GESTION, N&amp;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UND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SYMPTOMS CONTINUED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CITES OR AN ACCUMULATION OF FLUID IN ABDOMINAL PERITONEAL CA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LIVER FUNCTION FAILS, DISORIENTATION, HALUCINATIONS, HEPATIC COMA, AND DEATH OCC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ED TOWARD PREVENTING FURTHER DAMAGE TO THE L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ING ALCOHOL AND PREVENTING INF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ER NUTRITION AND VITAMIN SUPP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T AND APPROPIATE EXERCISE ARE ENCOURA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ONSTIPATION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ITION THAT OCCURS WHEN FECAL MATERIAL REMAINS IN THE COLON TOO LONG CAUSING EXCESSIVE REABSORPTION  OF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CES OR STOOL BECOME HARD, DRY, AND DIFFICULT TO ELI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5" descr="image002"/>
          <p:cNvPicPr/>
          <p:nvPr/>
        </p:nvPicPr>
        <p:blipFill>
          <a:blip r:embed="rId1"/>
          <a:stretch/>
        </p:blipFill>
        <p:spPr>
          <a:xfrm>
            <a:off x="6172200" y="0"/>
            <a:ext cx="17445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AUSE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OR BOWEL HAB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NIC USE OF LAXATIVES CAUSING A LAZY BOW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TS LOW INFI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RTAIN DIGESTIVE DISE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CORRECTED BY A DIET HIGH IN FIBER, ADEQUATE FLUIDS AND EXERC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IMES, LAXATIVES USED TO STIMULATE DEFE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18184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TONGUE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CULAR OR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S SPECIAL RECEPTORS CALLED TASTE BUDS THAT ALLOW A PERSON TO TASTE SWEET, SALT, SOUR AND BITTER SENS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AIDS WITH CHEWING AND SWALLOWING OF 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DIARRHEA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ITION CHARACTERIZED BY FREQUENT WATERY S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REMELY DANGEROUS IN INFANTS AND SMALL CHILDREN DUE TO THE EXCESSIVE LOSS OF FLU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AUSE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RIATED COL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SUBST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5" descr="diarrhea"/>
          <p:cNvPicPr/>
          <p:nvPr/>
        </p:nvPicPr>
        <p:blipFill>
          <a:blip r:embed="rId1"/>
          <a:stretch/>
        </p:blipFill>
        <p:spPr>
          <a:xfrm>
            <a:off x="6019920" y="1676520"/>
            <a:ext cx="291780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MINATE THE 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ADEQUATE FLUID INT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IFY THE DI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DIVERTICULITI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LAMMATION OF DIVERTICULA, POUCHES OR SACS THAT FORM IN THE INTESTINE AS THE MUCOSAL LINING PUSHES THROUGH THE SURROUNDING MUS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5" descr="diverticulitis-086101"/>
          <p:cNvPicPr/>
          <p:nvPr/>
        </p:nvPicPr>
        <p:blipFill>
          <a:blip r:embed="rId1"/>
          <a:stretch/>
        </p:blipFill>
        <p:spPr>
          <a:xfrm>
            <a:off x="1371600" y="1219320"/>
            <a:ext cx="693432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AUSE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FECAL MATERIAL AND BACTERIA  BECOME TRAPPED IN DIVERTICULA, INFLAMMATION OCC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CAUSE AN ABSCESS OR RUPTURE LEADING TO PERITON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SYMPTOM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716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Y DEPENDING ON THE AMOUNT OF INFLAM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DOMINAL 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REGULAR BOWEL MOVEMENTS AND FL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IPATION OR DIARRH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DOMINAL DIST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-GRADE F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&amp;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BOTICS, STOOL SOFTNENING AND PAIN MED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GERY TO REMOVE THE AFFECTED SECTION OF COL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GASTROENTERITI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LAMMATION OF MUCOUS MEMBRANE LINING THE STOMACH AND INTESTINAL 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AUSE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 POIS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tongue"/>
          <p:cNvPicPr/>
          <p:nvPr/>
        </p:nvPicPr>
        <p:blipFill>
          <a:blip r:embed="rId1"/>
          <a:stretch/>
        </p:blipFill>
        <p:spPr>
          <a:xfrm>
            <a:off x="2016000" y="228600"/>
            <a:ext cx="51739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SYMPTOM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DOMINAL CRAM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&amp;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RRH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UALLY REST AND INCREASED FLUID INT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SEVERE CASES, ANTIBOTICS, IV FLUIDS, AND MEDICATIONS TO SLOW PERISTALSIS MAY BE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HEMORRHOID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NFUL, DILATED OR VARICOSE VEINS OF RECTUM AND/OR  AN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AUSE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INING TO DEFECATE OR CONSTIP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SURE DURING PREGNA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UFFICIENT FLUID INT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USE OF LAX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LONGED SITTING OR STA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SYMPTOM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E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FIBER DIET AND INCREASED FLUID INT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OL SOFT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Z BATH OR WARM MOIST COMPR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MORRHOIDECTOMY IN SEVERE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HEPATITI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43000" y="9140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AL INFLAMMATION OF THE L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A OR INFECTIOUS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LY CONTAGI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MITTED IN FOOD OR WATER THAT HAS BEEN CONTAMINATED BY THE FECES OF AN INFECTED P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B OR SERUM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MITTED BY BLOOD AND SER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SERIOUS THAN TYPE A AND CAN LEAD TO CHRONIC HEPATITIS OR CIRRHOSIS OF THE L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SYMPTOMS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VER, ANOREXIA, AND N&amp;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IQUE, DARK COLOR U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Y-COLORED S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LARGED L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UND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T HIGH IN PROTEIN AND CALORIES AND LOW IN F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HERNIA OR RUPTURE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CURS WHEN AN INTERNAL ORGAN PUSHES THROUGH A WEAKENED AREA OR NATURAL OPENING IN A BODY 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30T19:38:05Z</dcterms:created>
  <dc:creator>HOC</dc:creator>
  <dc:description/>
  <dc:language>en-US</dc:language>
  <cp:lastModifiedBy>Krista</cp:lastModifiedBy>
  <cp:lastPrinted>1999-04-16T18:48:39Z</cp:lastPrinted>
  <dcterms:modified xsi:type="dcterms:W3CDTF">2011-03-29T04:58:32Z</dcterms:modified>
  <cp:revision>53</cp:revision>
  <dc:subject/>
  <dc:title>DIGESTIVE SYSTEM</dc:title>
</cp:coreProperties>
</file>